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8236-E7F6-42F2-B439-9AF65C06456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FFBA-2419-4FA6-958C-4744C8D3C34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8DB2-D5D6-4632-A811-42A549DB2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94C1-0E93-42BB-A96F-D13E7121062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DA61-DCD5-47A2-A007-E50D65ECB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E480-FA11-4E21-A6D8-8F5C7CD508A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768A-64F3-4D04-AE97-5072BC3D4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5C62-644C-4AE4-A193-5887C6D6F63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60CE-E1CC-4E42-B14B-D4AABB3FD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E98D-B5A3-4F44-93EA-F35ED8DC043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7D94-28D0-4C0D-A677-350A110BE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AB43-20B2-4378-AEAE-7DEDF583695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5CA7-9369-4551-B22A-E0132D1DA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548A-81AD-452A-A442-F39AFF8E1A5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DC7E-B4E6-437C-92A1-B5A11ED1D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D641-1947-47C9-BB5A-0DDD75FB167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DA8C-8568-4E61-8A1F-18909F386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E23B-0BB2-41F1-8A78-552D46B140A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57DC-6ABE-48E6-B47D-4DAEC16F2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BFA6-1E32-4B25-9580-5754C5E9C7A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F446-A662-4E13-96BA-FC17F330A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F245-64A9-457F-882B-EC111CCF88C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76E6-BA62-4FBA-8B84-D1D0F8EDD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C27E-35A9-4FBD-BA4E-9F68790D22A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FBA5-0D29-4565-A210-9A993DE7C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B3B2-71FE-45DF-BE6E-47B9078E442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43C4-4D6C-49D9-B5B0-95993A0BC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C709-85DB-4802-863F-EF37A510430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A2EE-8218-47CE-978C-2968678F5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303E-3BD3-48C1-B05F-CC07423D40B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B6BF-917F-4050-9349-65453A09F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6D04-4D0C-4B06-9E78-A9603B1E69B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9EE9-CA46-4EB8-83FE-00BBC9149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61BA-66F9-4E15-A637-73EA10DC3A7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E2EF-1CB6-4DB8-B8A1-BC72BA1F4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D003-7BCA-42F7-B44C-EF5937A7E76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231B-95BB-40A4-BD7D-F7B245D55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D2AF-A281-4A84-A947-BB21A08E983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A96C-2AFB-467E-9779-996D2BA7A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C5D3-6C3D-4D2D-BF16-96FC2D077DA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B982-CEF6-4711-B08F-0535B81E0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E179-48A8-4A18-AEF9-1EA6881775D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6C05-6724-4D9F-A265-12B421EA3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8D79-8081-45A3-843F-FB30B85B33A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B29E-6A44-4308-8C4B-56EB3CABD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1982-FB4D-4392-9553-62C50D25CAB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1019-9552-4745-B17D-87124EE9B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1C04-C835-47BB-8CA9-D10D6D6E5D3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B14E-82FF-4B41-92F7-ED910C529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E443-CB30-46CE-B408-8D17B3C3EB0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0E52-AECA-4DE2-AD1E-1A5E338F2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EA71-C277-405B-B224-E540ADEC849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3511-D3AA-4B11-A0A8-18DC21E4E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4C42-7CDD-4000-98AA-52044EA8B2C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1D58-53CD-48A1-93EE-C6DC0BAFA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8181-0098-4330-8D7D-4E8A4A8A0F4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A9C1-60F1-4434-A4C4-959D86F59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9CE2-858D-434A-B9F7-617A934F20B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D554-2C83-46F8-A092-BA09B8685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0B30-1DD3-4DD6-AD08-3B7C652EE14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D2A0-15FB-47FD-92AC-182F662EF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E0D1-0A83-46C1-A93B-D2403BB71B8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F376-3B25-45D4-A808-811760CFB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BE75-89EE-4159-947C-461E8D2384C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75D6-6119-42E0-9116-E32624556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97DA-1B46-418E-B26C-12636701C49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71F3-E7B7-4270-994E-8843A8ABC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601F-FF37-4047-98BA-FCC5C26055D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42DD-F821-4CC2-8D40-69A60E460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CE7B-EC36-4CEF-BFB3-2FE8273EFC0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1038-901F-4FEB-B89C-6D3DCB83E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CCED-CFEA-4EA4-8966-5EFBBD8AA01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53CF-3963-4229-87BF-520104ED9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2E41-2615-4D66-AC95-A4CACE33EAC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4D26-B4AE-4D57-883C-55C8A2AE8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4CB6-27FE-43E8-B503-F7309A609C1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F861-D123-4F1C-BE12-A2BFC149B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F2D6-87A3-4EA8-AF25-03D493D421E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FF42-9C9A-45D1-A19F-EC6CE7E52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BD31-A6BB-40EA-B6DF-9E91AA5F67A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1F7F-F785-4817-8502-6A8E01C38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77E0-D63E-4A14-969F-344832C21A0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4426-88EC-41F2-B777-DB8879252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5EA5-1792-422D-82A6-926E8CFF0CD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0BB0-EC8F-47E7-8FB6-9F5F91864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5B0C-4E7F-41CD-973A-6A352526979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D88B-AFA0-4C8D-8FA8-41875429D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9EF8-D9BB-43C3-9043-E4360507C57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47C4-1CF6-436B-A24E-AEE270A75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77C8-B83D-41B9-ADB0-CFF6E0EBE64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0AC0-28DC-4678-8FD3-9DEB986B6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9A9C-42C2-40B3-BFEE-0EF007C308B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382D-39B3-41B9-B33B-43595A055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6B9D-76E5-40EE-9AA6-162EB610A00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5180-C9CD-47B3-B513-71198D07C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E3B1-A410-4555-9D51-F2EF8B9B9B6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0631-8CEB-4926-9B3D-74F2D5A62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AD44-D745-494D-A92B-386E95D81BF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BCE6-CA5C-451D-9B91-2E33604AF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1412E-7C36-4CBA-811B-D0C324177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8698A-37B5-40CA-8F08-C4387DA8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0A061-46AA-4CCA-A4D3-0086F0EC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5319D-FB95-43FA-BC96-352BE598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7FB01-73E1-417A-BD5A-432286D8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A4C4D-CFF3-47E3-9F00-CA12B3F5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8FFEC-7D75-48C8-A4A6-FADA7537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0F5D5-D541-4FC1-B866-2C3830CC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1CF25-E999-4820-881C-3FCE68CB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F7712-70D4-4993-97F4-D0DCE667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9A1D9-0D18-406C-AFCB-5AEE99C3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39378-4770-4379-AC5E-80817011A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A9735A-E97C-4AAB-BD29-118541651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E9A9CF-EFEB-453D-8D64-B73088E3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3A14FC-533D-45C1-9E29-2624F2DF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5785B4-5905-44D7-AE05-82918033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FAB67C-602C-4554-887A-4419AEBE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0F5ED6-EFDC-420E-8237-F969AA29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ECC39F-7AEE-4796-88A0-7B061563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C67BE1-10EA-49B1-BC23-E8B873FF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895EF7-3D39-4E73-A648-B9131A9A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C1BC6C-7EF4-4219-AEF6-82F9E27C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A9F172-CC46-4DB3-9987-DFABCED9D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E39B5B-851E-48B5-9A0A-127F22543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45C1EE-FF6F-4C59-A7A2-472DF7C85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6DFA53-C63E-4A1A-99D4-62CDEEBD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5911B8-E234-457B-AE05-F6539D67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51ACA9-CC9D-4E20-A689-FB8DD774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E1C085-15D8-43EB-A406-83B49F49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FF0C26-2C9E-4489-8785-D94DEEC6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A028FB-9F21-4D6E-BE89-5728E13C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AF7FC9-C494-4F0B-8556-A411898E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D25A10-9F6E-46C3-B42D-C5A37798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070E90-9C65-40CA-81F8-F33199DF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B26C8B-1644-4307-A1C1-4C6CA3F0E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DA2A07-3027-4EBA-A0CC-00238C98C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6C01B2-28AB-4E08-BA11-7BA0F41B7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432B4C-75AA-478F-8246-5DAF9826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597BD1-98DE-49AB-82AD-DD4855BC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86E9E7-F0EA-43C8-AA7B-DEF316FF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8DF258-3F9C-4839-A114-AAFFB0F2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665DEF-B82A-4853-921E-32A6015B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C96677-BF80-4BA3-AB77-3D692ED4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E1A45B-722D-41C3-A674-DEC7CF34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00200E-4A0E-48B6-811F-AAA3BAAC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C5CC25-8E27-44F9-8065-A559F21D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B0CB85-2B30-42E0-B4FE-746D52139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AB802F-FD4D-40C8-95D0-1FEA55CB3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6278-4878-4233-B9BB-545C58579C24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Sistemi Distribui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BB5B-1693-489F-B553-7809751914E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5641-0F30-44AA-8A4E-89E0F5A2193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E3D9-0EAD-49F3-BA3E-659B7A2F86E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493A-833E-4D59-8214-4FA121AE34D6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1544760" y="2103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it-IT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Corso d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 Ingegneria del Web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e Applicazioni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 A. 2017-2018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Domenico Rosaci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XML   Sch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826920" y="1413000"/>
            <a:ext cx="73080" cy="544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7812000" y="1413000"/>
            <a:ext cx="133200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XML Schem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728120" cy="38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’ una delle attività del working group su XML. Ha prodotto 7 generazioni di working draft, per poi divenire recommendation nel maggio del 200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’ diviso in tre part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Schema Part 0: Primer (un’introduzi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Schema Part 1: Structures (struttura del documento XML Sche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Schema Part 2: Datatypes (modello dei dati e meccanismi di estensione dei tip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ormato di un XML Sch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71640" y="1295280"/>
            <a:ext cx="794376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documento di XML Schema è racchiuso in un elemento &lt;schema&gt;, e può contenere, in varia forma ed ordine, i seguenti element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import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d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include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 inserire, in varia forma, altri frammenti di schema da altri docum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simpleType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complexType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 la definizione di tipi denominati usabili in segu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element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d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attribute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 la definizione di elementi ed attribut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global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l documen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attributeGroup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group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 definire serie di attributi e gruppi di content model complessi e denomina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notation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 definire notazioni non XML all’interno di un documento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annotation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 esprimere commenti per esseri umani o per applicazioni diverse dal parser di XML Schem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 tipi in XML Schem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7799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XML Schema usa i tipi per esprimere vincoli sul contenuto di elementi ed attribu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tipo semplice è un tipo di dati che non può contenere markup e non può avere attributi. In pratica è una sequenza di caratteri. E' una specificazione (e restrizione) di CDATA o #PC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tipo complesso è un tipo di dati che può contenere markup e avere attributi. E' l'equivalente di un tipo strutturato o mi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XML predefinisce un grande numero di tipi semplici: string, decimal, float, boolean, uriReference, date, time, ec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gni tipo semplice è caratterizzato da alcune proprietà, dette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facet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che ne descrivono vincoli e formati (permessi ed obblighi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’ data possibilità di derivare nuovi tipi, sia per restrizione che per estensione di permessi ed obblighi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Tipi semplic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15640" y="1294920"/>
            <a:ext cx="77994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li elementi e gli attributi sono istanze di un tipo. I tipi semplici sono tipi stringa non ulteriormente strutturati, e possono essere usati per entramb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XML Schema non fa nessuna distinzione tra attributi ed elementi con content model tes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element name="price" type="xsd:decimal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attribute name="code" type="xsd:ID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no predefiniti molti tipi semplici, che possono essere usati liberamente nelle definizioni. Il nome di un tipo semplice predefinito appartiene allo stesso namespace di XML Sche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' possibile derivare i tipi semplici per restrizione, unione o l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Una lista parziale di tipi semplic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2920" y="1523880"/>
            <a:ext cx="7872480" cy="456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una stringa di caratter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i valori  'true ' e 'false'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tege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una stringa di numeri con segno: +653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ecimal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una stringa di numeri (con segno e punto): '-34.15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loat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un reale in notazione scientifica: '12.78E-12 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uration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: una stringa per una durata temporale nel formato </a:t>
            </a:r>
            <a:r>
              <a:rPr b="0" lang="it-IT" sz="1600" spc="-1" strike="noStrike">
                <a:solidFill>
                  <a:srgbClr val="808080"/>
                </a:solidFill>
                <a:latin typeface="Arial"/>
              </a:rPr>
              <a:t>PnYnMnDTnHnMnS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. Ad esempio  'P1Y2M3DT10H30M ' è la durata di 1 anno, 2 mesi, 3 giorni, 10 ore, e 30 minut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: una data nel formato </a:t>
            </a:r>
            <a:r>
              <a:rPr b="0" lang="it-IT" sz="1600" spc="-1" strike="noStrike">
                <a:solidFill>
                  <a:srgbClr val="808080"/>
                </a:solidFill>
                <a:latin typeface="Arial"/>
              </a:rPr>
              <a:t>CCYY-MM-DD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'2001-04-25 '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: un valore di orario nel formato hh:mm:ss con una appendice opzionale per l'indicazione del fuso orario. Es.: '13:20:00+01:00 ' significa 1:20 PM in Middle European Time (+01:0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hexBinary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dati binari arbitrari in formato esadecimale: '0FB7'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nyUR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la stringa di un URI, come "http://www.w3.org/ ". Accetta sia URI relativi che assolu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D , IDREF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Una stringa senza whitespace con le stesse proprietà e vincoli di ID e IDREF nei DT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erivazione per restrizi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42920" y="1295280"/>
            <a:ext cx="7872480" cy="494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parte da un tipo già definito e ne si restringe il set di valori leciti attraverso l'uso di face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editore" type="Teditore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simpleType name="Teditore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restriction base="xsd:string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numeration value="Mondadori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numeration value=”Rizzoli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numeration value=”Einaudi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restric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simpl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data" type="Tdatarecente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simpleType name=" Tdatarecente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restriction base="xsd:date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minInclusive value="2006-01-01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restric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simpl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c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71640" y="1599840"/>
            <a:ext cx="7943760" cy="434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ogni tipo io posso precisare dei facets, delle caratteristiche indipendenti tra di loro che specificano aspetti del tip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ngth, minLength, maxLength: numero richiesto, minimo e massimo di caratt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inExclusive, minInclusive, maxExclusive, maxInclusive: valore massimo e minimo, inclusivo ed esclus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cision, scale: numero di cifre significative e di decimali significa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ttern: espressione regolare che il valore deve soddisf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numeration: lista all’interno dei quali scegliere il valore (simile alla lista di valori leciti degli attributi nei DTD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iod, duration, encoding, ec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-45900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Derivazione per uni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71640" y="765000"/>
            <a:ext cx="7943760" cy="532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'insieme dei valori leciti è data dall'unione dei valori leciti di due tipi semplic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prezzo" type="Tprezzo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simpleType name="Tprezzo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un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simpl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restriction base="xsd:decimal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minExclusive value="0.0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restric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simpl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simpl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restriction base="xsd:string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numeration value="gratis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restric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simpl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un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simpl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Derivazione per list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71640" y="1413000"/>
            <a:ext cx="794376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no valori leciti una lista separata da virgole di valori del tipo semplice specifica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simpleType name="TListaDiNumeri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list itemType='xsd:integer'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/xsd:simpleTyp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attribute name="coord" type="TListaDiNumeri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area coord="25,30,75,90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Tipi anonimi e tipi denominat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42920" y="1523880"/>
            <a:ext cx="78724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XML Schema i tipi possono essere predefiniti (solo x tipi semplici), denominati (con una definizione esplicita, come nei casi precedenti) o anonimi (interni alla definizione di un elem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editore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simpl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restriction base="xsd:string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numeration value=”Mondadori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numeration value=”Rizzoli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numeration value=”Einaudi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restric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simpl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ommar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64760" y="1341360"/>
            <a:ext cx="6807240" cy="46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otivi per introdurre XML Sch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imitazione dei DT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troduzione di tipi ed elem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efinizione di elementi ed attribu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ltri aspetti rileva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Tipi compless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42920" y="1600200"/>
            <a:ext cx="787248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no tipi comples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tent model ANY ed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tent model struttur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tent model mi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tent model d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qualunque tip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ma con attrib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esistono tipi complessi predefiniti (o quas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derivazione può avvenire per restrizione o estensi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Content model ANY ed EMP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85760" y="1341360"/>
            <a:ext cx="7734240" cy="46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anything" type="xsd:anyType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empty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complexType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complexType name="emptyTypeWithAttribute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attribute name="first"  type="xsd:string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attribute name="second" type="xsd:decima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empty2" type="emptyTypeWithAttributes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Content model strutturati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71280" y="1294920"/>
            <a:ext cx="7848360" cy="487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i DTD si usano virgole e barre per specificare obblighi e scelte tra gli elementi di un content model comples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XML schema si usano &lt;choice&gt;, &lt;sequence&gt; e &lt;all&gt;. Questi sostituiscono anche le parentes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sequenza (A, B, C) div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sd:sequence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xsd:element name=”A” type="xsd:string"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xsd:element name=”B” type="xsd:string"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xsd:element name=”C” type="xsd:string"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scelta (A | B | C) div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sd:choice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xsd:element name=”A” type="xsd:string"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xsd:element name=”B” type="xsd:string"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xsd:element name=”C” type="xsd:string"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xsd:choi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16000" y="-1717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Content model complessi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42920" y="764640"/>
            <a:ext cx="787248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XML Schema riprende l'operatore &amp; di SGML: tutti gli elementi debbono essere presenti, ma in qualunque ordine. (A &amp; B &amp; C) diven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xsd:all&gt;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xsd:element name=”A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xsd:element name=”B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xsd:element name=”C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xsd:all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.B.: ci sono restrizioni: la struttura all può solo essere l'unica struttura di un tipo complesso (non posso usarla in espressioni più comples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raggruppamento non ha bisogno di parentesi: (A, ( B | C)) diven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xsd:sequence&gt;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xsd:element name=”A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xsd:choice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&lt;xsd:element name=”B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&lt;xsd:element name=”C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/xsd:choice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Ripetibilità e facoltatività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9246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usano gli attributi minOccurs e maxOccu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XML Schema permette non solo i valori 0, 1 e infinito, ma qualunque numero inter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finito è "unbounded", e può essere usato solo per maxOccu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default entrambi valgono 1. Inoltre, minOccurs ≤ maxOcc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optional" type="x" minOccurs="0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repeat" type="x" maxOccurs="unbounded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free" type="x" 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     minOccurs="0" maxOccurs="unbounded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counted" type="x"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     minOccurs="2" maxOccurs="4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Ripetibilità e facoltatività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2120" y="1413000"/>
            <a:ext cx="8153280" cy="44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osso specificare questi attributi non solo per gli elementi, ma anche per le strutture (choice, sequence, all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d esempio, (A,B,C)* divent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xsd:sequence minOccurs="0" maxOccurs="unbounded"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&lt;xsd:element name=”A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&lt;xsd:element name=”B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&lt;xsd:element name=”C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ppure, (A,(B|C)+) divent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xsd:sequence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&lt;xsd:element name=”A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&lt;xsd:choice minOccurs=”1" maxOccurs="unbounded"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&lt;xsd:element name=”B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&lt;xsd:element name=”C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&lt;/xsd:choice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Content model misti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42920" y="1295280"/>
            <a:ext cx="78724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content model misto aggiunge semplicemente l’attributo mixed con valore “true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Qualunque espressione di elementi viene rispettata, ma il PCDATA può comparire ovunque, prima o dopo questi elemen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!ELEMENT para   (#PCDATA | em | strong)*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complexType name="paraContent" mixed="tru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choice minOccurs="0" maxOccurs="unbounde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em" type="paraContent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strong" type="paraContent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choi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para" type="paraContent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Content model misti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464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 si possono fare cose più comples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review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complexType mixed="true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author" type="xsd:string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title" type="xsd:string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pub" type="xsd:string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questo caso il #PCDATA può comparire ovunque prima e dopo questi elementi, ma questi debbono essere posti esattamente in quell'ordine e in quel nume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ent model con attributi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42920" y="1341000"/>
            <a:ext cx="78724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 tipi complessi, gli attributi vengono sempre posti alla fine del content model, in una lista aperta di elementi &lt;attribute&gt;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ipo complesso strutturato con attribut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!ELEMENT Z (A,B,C)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!ATTLIST Z y CDATA #IMPLIE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xsd:element name=“Z” type=“Tz”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xsd:complexType name=“Tz”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xsd:sequence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&lt;xsd:element name=”A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&lt;xsd:element name=”B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&lt;xsd:element name=”C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/xsd: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xsd:attribute name=“y” type=“xsd:string”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Content model con attributi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15640" y="1219320"/>
            <a:ext cx="7799400" cy="487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 tipi semplici non possono avere attributi. Qualunque elemento preveda attributi è necessariamente di un tipo compless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XML Schema differenzia allora tra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tipi complessi con contenuto semplic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tipi complessi con contenuto compless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Questa è la definizione di un tipo il cui contenuto è semplice ma che prevede un attribu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complexType name=”Tprezzo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simpleCont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xtension base="xsd:decimal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attribute name="valuta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extens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simpleCont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price" type=”Tprezzo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"/&gt;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Motivazione (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izialmente si pensava che XML servisse solo per i docu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XML è più semplice di SGML, è più generale ed aperto di HTML, è lo strumento ideale per esprimere documenti di testo, siano essi libri, manuali o pagine We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indi l’enfasi iniziale era su internazionalizzazione, strutturazione, facilità di conversione, ecc. Raccoglieva in pieno l’eredità di SGML. Lo sviluppo di XML era difatti condotto da membri della comunità SGM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erivare tipi compless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i sono due modi per derivare tipi compless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er restri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si limitano ulteriormente i vincoli espressi: modificando minOccurs e maxOccurs, fissando dei valori per certi elementi o attributi, o imponendo ad un elemento un sottotipo del tipo originar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er estens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aggiungendo al content model nuovi elementi o nuovi attributi. Attenzione: i nuovi elementi sono posti necessariamente alla fine degli altr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16000" y="-2736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Derivazione per restrizione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71640" y="981000"/>
            <a:ext cx="7943760" cy="48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 deriva per restrizione imponendo maggiori vincoli sui vincoli già imposti dal tipo base (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estriction by subsumpt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complexType name="nomecognom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element name="nome" type="xsd:string”</a:t>
            </a:r>
            <a:br>
              <a:rPr sz="1600"/>
            </a:b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             minOccurs="0" maxOccurs="unbounded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element name="cognome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/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complexType name="cognom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complexCont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restriction base="nomecognom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element name="cognome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/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/xsd:restrict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/xsd:complexCont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Derivazione per restrizione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41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erché questa non va ben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complexType name="nomecognom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element name="nome" type="xsd:string”</a:t>
            </a:r>
            <a:br>
              <a:rPr sz="1600"/>
            </a:b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             minOccurs="0" maxOccurs="unbounded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element name="cognome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/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xsd:complexType name="cognom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xsd:complexCont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xsd:restriction base="nomecognom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xsd:element name="nome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/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/xsd:restrict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/xsd:complexCont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160" y="-31644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Derivazione per estensi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42920" y="907920"/>
            <a:ext cx="78724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restrizione per estensione aggiunge element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lla fin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l content model preced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nuovi attributi non ci sono problemi, mentre per nuovi elementi bisogna assumere l’esistenza di una sequence tra il vecchio e il nuovo content model.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lt;xsd:complexType name='nomecognome'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lt;xsd:sequence&gt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&lt;xsd:element name='nome’ type=‘xsd:string’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minOccurs='0’ maxOccurs=’unbounded'/&gt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&lt;xsd:element name='cognome' type=‘xsd:string’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lt;xsd:complexType name=’nomecontitolo’ &gt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&lt;xsd:complexCont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lt;xsd:extension base=“nomecognome”&gt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&lt;xsd:sequence&gt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&lt;xsd:element name='title’ minOccurs='0’ type=“xsd:string”/&gt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&lt;/xsd:sequence&gt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&lt;/xsd:extens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lt;/xsd:complex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efinire elementi ed attribut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71640" y="1197000"/>
            <a:ext cx="7943760" cy="48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usano gli elementi &lt;element&gt; e &lt;attribute&gt;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 sono posti all’interno del tag schema sono elementi ed attributi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global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possono essere root di documenti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trimenti sono usabili solo all’interno di elementi che li prevedono come tip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esti hanno vari attributi importan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ame: il nome del tag o dell’attributo 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definizione loca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f: il nome di un elemento o attributo definito altrove 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definizione globa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ype: il nome del tipo, se non esplicitato come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xOccurs, minOccurs: il numero minimo e massimo di occorr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ixed, default, nillable, ecc.: specificano valori fissi, di default e determinano la possibilità di elementi null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efinizioni locali o globali (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42920" y="1413000"/>
            <a:ext cx="7872480" cy="46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a definizione si dic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global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se è posta all'interno del tag &lt;schema&gt;. In questo caso l'elemento o l'attributo è definito in maniera assoluta. L'elemento può essere un elemento radice del docum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a definizione si dic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ocal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se è inserita all'interno di un tag &lt;complexType&gt;. In questo caso l'elemento o l'attributo esiste solo se esiste un'istanza di quel tipo, e l'elemento non può essere un elemento radice del docum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efinizioni locali o globali (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99640" y="1268280"/>
            <a:ext cx="8015400" cy="482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' possibile all'interno di un tipo complesso fare riferimento ad un elemento globale, usando l'attributo ref invece che n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schema...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element name="librieriviste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complexTyp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choice maxOccurs="unbounded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element</a:t>
            </a:r>
            <a:r>
              <a:rPr b="1" lang="it-IT" sz="2000" spc="-1" strike="noStrike">
                <a:solidFill>
                  <a:srgbClr val="808080"/>
                </a:solidFill>
                <a:latin typeface="Courier New"/>
              </a:rPr>
              <a:t> ref="libro"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element</a:t>
            </a:r>
            <a:r>
              <a:rPr b="1" lang="it-IT" sz="2000" spc="-1" strike="noStrike">
                <a:solidFill>
                  <a:srgbClr val="808080"/>
                </a:solidFill>
                <a:latin typeface="Courier New"/>
              </a:rPr>
              <a:t> ref="rivista"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/xsd:choi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808080"/>
                </a:solidFill>
                <a:latin typeface="Courier New"/>
              </a:rPr>
              <a:t>&lt;xsd:element name="libro" type="xsd:string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808080"/>
                </a:solidFill>
                <a:latin typeface="Courier New"/>
              </a:rPr>
              <a:t>&lt;xsd:element name="rivista" type="xsd:string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/xsd:schema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16000" y="-1717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Gruppi e gruppi di attribut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71280" y="764640"/>
            <a:ext cx="7848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’ possibile raccogliere gli elementi e gli attributi in grupp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sd:element name=”A”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&lt;xsd:complexType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&lt;xsd:group ref=”elemA” 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&lt;xsd:attributeGroup ref=”attrsA” 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&lt;/xsd:complexTyp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sd:group name=“elemA”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sd:sequence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&lt;xsd:element name=”B” type="xsd:string"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&lt;xsd:element name=”C” type="xsd:string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xsd:grou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sd:attributeGroup name=”attrsA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sd:attribute name=”p” type=”xsd:string”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sd:attribute name=”q” type=”xsd:string”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xsd:attributeGrou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Annotazion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71640" y="1295280"/>
            <a:ext cx="7943760" cy="501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i DTD l’unico posto dove mettere note e istruzioni di compilazione sono i commenti. Però i commenti sono a perdere: possono essere mangiati in qualunque fase dell’elaborazi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XML Schema, invece, esiste un posto specifico dove mettere note ed istruzioni, l’elemento &lt;annotation&gt;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elemento &lt;annotation&gt; può contenere elementi &lt;documentation&gt; (pensati per essere letti da esseri umani) oppure elementi &lt;appInfo&gt;, pensati per essere digeriti da applicazioni specif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sd:element name=’pippo'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&lt;annotation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&lt;documentation&gt;elemento pippo&lt;/documentation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&lt;/annotation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... Il resto della definizion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Arial"/>
              </a:rPr>
              <a:t>I namespace (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5640" y="1294920"/>
            <a:ext cx="7799400" cy="487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La dichiarazione di targetNamespace definisce il namespace del documento da validar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Gli attributi elementFormDefault e attributeFormDefault permettono di controllare se l’uso del prefisso è necessario per i tipi non globali. </a:t>
            </a:r>
            <a:r>
              <a:rPr b="0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schema xmlns="http://www.w3.org/2000/08/XMLSchem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xmlns:po="http://www.example.com/PO1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targetNamespace="http://www.example.com/PO1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elementFormDefault="unqualifie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attributeFormDefault="unqualified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element name=”A”   type="po:prova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element name=”C”   type="string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complexType name=”po:prova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element name=“B” type=“string”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element ref=“C”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/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/complex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/schem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Motivazione (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asce poi l’idea che XML possa servire per qualcosa di più: XML è (anche) un linguaggio di markup per trasferire dati: un meccanismo per convertire dati dal formato interno dell’applicazione ad un formato di trasporto, facile da convertire in altri formati intern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n pensato per la visione umana, ma per essere prodotto ed usato da programm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XML è un’interfaccia (Adam Bosworth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’interfaccia tra autore e lettore, attraverso XSL e XLink, per portare significato tra creatore ed ut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’interfaccia tra applicazione ed applicazione, attraverso XML Schema, per esprimere contratti sui formati, e verificarne il rispet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Arial"/>
              </a:rPr>
              <a:t>I namespace (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7696080" cy="487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Quello che i namespace permettono di fare è di specificare regole di validazione solo su alcuni e non tutti i namespace del documento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element name="htmlElemen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complex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any namespace="http://www.w3.org/1999/xhtml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minOccurs="1" maxOccurs="unbounded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/sequenc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/complex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/elem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Nell’attributo namespace dell’elemento &lt;any&gt; posso specificare o un namespace vero e proprio, o i valori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##any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: qualunque XML ben form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##local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: qualunque XML non sia qualificato (cioè privo di dichiarazione di namespa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##other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: qualunque XML tranne il target name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ocal e global scope (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42920" y="1295280"/>
            <a:ext cx="7872480" cy="494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on funziona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schema xmlns:xsd="http://www.w3.org/2001/XMLSchema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xmlns:b="http://www.betterbooks.org"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targetNamespace="http://www.betterbooks.org"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book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author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title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pub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schem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b:book xmlns:b="http://www.betterbooks.org"&gt;</a:t>
            </a:r>
            <a:br>
              <a:rPr sz="1600"/>
            </a:b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   &lt;b:author&gt;Douglas Adams&lt;/b:autho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b:title&gt;Hitch-hikers Guide to the Galaxy&lt;/b: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b:pub&gt;Pan Books&lt;/b:pub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/b:book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ocal e global scope (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15640" y="1371240"/>
            <a:ext cx="77994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eanche questo funziona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schema xmlns:xsd="http://www.w3.org/2001/XMLSchema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xmlns:b="http://www.betterbooks.org"</a:t>
            </a:r>
            <a:br>
              <a:rPr sz="1600"/>
            </a:b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targetNamespace="http://www.betterbooks.org"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book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author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title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pub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schem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book xmlns="http://www.betterbooks.org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author&gt;Douglas Adams&lt;/autho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title&gt;Hitch-hikers Guide to the Galaxy&lt;/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pub&gt;Pan Books&lt;/pub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/book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ocal e global scope (3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42920" y="1219320"/>
            <a:ext cx="7872480" cy="487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Questo invece funziona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schema xmlns:xsd="http://www.w3.org/2001/XMLSchema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xmlns:b="http://www.betterbooks.org"</a:t>
            </a:r>
            <a:br>
              <a:rPr sz="1600"/>
            </a:b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targetNamespace="http://www.betterbooks.org"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book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author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title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pub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schem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b:book xmlns:b="http://www.betterbooks.org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author&gt;Douglas Adams&lt;/autho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title&gt;Hitch-hikers Guide to the Galaxy&lt;/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pub&gt;Pan Books&lt;/pub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b:book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ocal e global scope (4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80010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li attributi elementFormDefault e attributeFormDefault controllano se gli elementi e gli attributi locali siano per default qualificati o non qualifica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default sono NON qualificati, il che è ragionevole per gli attributi, e un po' una sorpresa per gli elementi. Si noti ad esempio che in RDF sia gli elementi che gli attributi debbono essere qualifica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rendere la o la seconda versione del documento valido, dobbiamo porre elementFormDefault a qualificato, altrimenti non funziona ni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ocal e global scope (5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42920" y="1066680"/>
            <a:ext cx="787248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sì funziona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schema xmlns:xsd="http://www.w3.org/2001/XMLSchema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targetNamespace="http://www.betterbooks.org"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elementFormDefault="qualified"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book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author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title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pub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schem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b:book xmlns:b="http://www.betterbooks.org"&gt;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&lt;b:author&gt;Douglas Adams&lt;/b:autho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b:title&gt;Hitch-hikers Guide to the Galaxy&lt;/b: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b:pub&gt;Pan Books&lt;/b:pub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b:book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clusioni e importazion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6920" y="1143000"/>
            <a:ext cx="772812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XML Schema, esistono meccanismi per dividere lo schema in più file, o per importare definizioni appartenenti ad altri name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clude: Le nuove definizioni appartengono allo stesso namespace, ed è come se venissero inserite direttamente nel docu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define: come include, le definizioni appartengono allo stesso namespace, ma possono venire ridefiniti tipi, elementi, gruppi, ec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:  le nuove definizioni appartengono ad un altro namespace, ed è l'unico modo per fare schemi che riguardino namespace multipl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schema xmlns:xsd="http://www.w3.org/2001/XMLSchema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targetNamespace="http://www.w1.org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xmlns="http://www.w1.org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xmlns:cd="http://www.w2.org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import namespace="http://www.w2.org"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   schemaLocation="http://www.w2.org/s1.xsd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Namespace multipli (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estire più namespace nello stesso documento significa avere più targetNamesp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 targetNamespace (volutamente) è un attributo di xsd:schema, quindi è possibile averne al massimo u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gestire più namespace è necessario separare la gestione dei namespace in più xsd:schema, ciascuno con il proprio targetNamespace, e farne un import in un unico glob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utti gli schemi coinvolti debbono però avere le dichiarazioni di namespace appropria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16000" y="-24336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Namespace multipli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920" y="764640"/>
            <a:ext cx="7872480" cy="54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xsd:schema xmlns:xsd="http://www.w3.org/2001/XMLSchem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xmlns="http://www.sito.org/uno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xmlns:due="http://www.sito.org/due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xmlns:tre="http://www.sito.org/tr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targetNamespace="http://www.sito.org/uno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elementFormDefault="qualified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xsd:import namespace="http://www.sito.org/due" </a:t>
            </a:r>
            <a:br>
              <a:rPr sz="1800"/>
            </a:b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            schemaLocation="./due.xsd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xsd:import namespace="http://www.sito.org/tre"</a:t>
            </a:r>
            <a:br>
              <a:rPr sz="1800"/>
            </a:b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            schemaLocation="./tre.xsd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xsd:element name="a" type="myType"/&gt;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xsd:complexType name="myType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xsd: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    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xsd:element name="due:b" type="due:myType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    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xsd:element name="tre:c" type="tre:myType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/xsd: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/xsd:complexType&gt;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/xsd:schem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-1717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nicità e chiav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42920" y="836640"/>
            <a:ext cx="787248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XML Schema, è possibile richiedere che certi valori siano unici, o che certi valori siano chiavi di riferimenti, analoghi alla coppia ID/IDREF in XML “classico”. Tuttavia, è possibile specificare pattern molto complessi come elementi chiav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icità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unique name="code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selector xpath="/books/book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field xpath="author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field xpath="title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/xsd:uniqu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tegrità referenz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key name="code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selector xpath="/books/book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field xpath="@code"/&gt;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/xsd:ke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keyref name="list" refer="code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selector xpath="/list/objects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field xpath="@id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/xsd:keyref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Motivazione (3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utta la faccenda del trasferimento dei dati si semplifica: i documenti strutturati e gerarchici sono un formato ragionevole di sintassi praticamente per qualunque cosa: documenti di testo, record di database, ec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lla W3C Note di Agosto 1999 (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http://www.w3.org/TR/schema-arc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Many data-oriented applications are being defined which build their own data structures on top of an XML document layer, effectively using XML documents as a transfer mechanism for structured data; 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Riferirsi ad uno sch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71640" y="1268280"/>
            <a:ext cx="7943760" cy="482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fv:pippo xmlns:fv =“http://www.fabio.org/Pippo”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mlns:xsi=“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http://www.w3.org/2001/XMLSchema-instanc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”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xsi:schemaLocation=“http://www.fabio.org/pippo.xsd”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fv:pippo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 l’attributo schemaLocation dentro all’istanza del documento XML diamo un suggerimento sulla posizione dello schema al validatore (ma la stessa informazione può essere data off-line, ad esempio perché predefinita, o in un header della connessione HTT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Validazione e buona form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31640" y="1294920"/>
            <a:ext cx="7583400" cy="458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buona forma di un documento XML è una proprietà puramente sintatt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validazione, viceversa, è la verifica di un impegno pres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opr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l formato, ad un livello già semantic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Mi impegno a scrivere dei documenti che siano formati da capitoli, ciascuno con un titolo e vari paragrafi, e ogni immagine con la sua didascalia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esprimere documenti di testo, i DTD probabilmente bastano, ma per esprimere blocchi di dati strutturati, è necessario un meccanismo di verifica più raffina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XML Schema è stato pensato per fornire quel supporto di validazione che i DTD permettono solo parzialmente, in particolare sul contenuto degli elementi e degli attributi del documenti XM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XML Schema e DTD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76360" y="1752120"/>
            <a:ext cx="7439040" cy="390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odulari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 DTD offrono le entità parametriche per tutto: content model ripetuti, frammenti di DTD riusabili, modularizzazione delle specifich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XML Schema offr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 meccanismo di inclusioni di file(differenziato e sofisticato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 sistema di tipi gerarchico e comples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 sistema di specifica di frammenti riutilizzabili di content model e attributi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Gestione dei name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 DTD ignorano i namespace. E' molto complesso far convivere DTD e qualifica degli element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XML Schema permette esplicitamente di qualificare gli elementi e gli attributi, e fornisce molte funzionalità di estensione o limitazione dei vincoli sugli elementi a seconda del loro namespa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XML Schema e DTD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924680" cy="441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incoli su elementi e attrib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DTD permettono un ragionevole controllo degli elementi strutturati, ma poca flessibilità sui content model mis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oltre non permettono vincoli sugli elementi di testo (#PCDATA e CDATA) a parte le liste di valori negli attrib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XML Schema amplia il set di vincoli per gli elementi strutturati, ed è molto più flessibile negli elementi con CM mis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oltre permette di definire tipi semplici, ovvero di esprimere vincoli su dati di tipo stringa, in maniera completa e sofistica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ocumentazione espli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legare documentazione per esseri umani in un DTD significa inserire commenti XML dentro al DTD. Questo è limitante e fragile (i parser eliminano  i commenti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XML Schema permette di inserire annotazioni in maniera esplicita e controllata, in maniera che sopravviva al par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egnaposto piè di pagin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Next: XML Schema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9/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XML Schema e DTD (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8001000" cy="441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ntassi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DTD usano una sintassi propria e particolare, che richiede parser appositi e strumenti di generazione e verifica apposi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XML Schema usa XML come sintassi. Tutti gli strumenti che si usano per XML sono immediatamente utili: parser, visualizzatori, verificatori, ec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contro, XML Schema è estremamente più verboso, tre o quattro volte più lungo del corrispondente DTD, e molto spesso meno chiaro da legge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i sono state molte obiezioni su questo specifico aspetto, ma TBL ha specificamente insistito per ricondurre tutto ad XML (altrimenti, che meta-sintassi sarebbe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5:01:40Z</dcterms:created>
  <dc:creator>Domenico Rosaci</dc:creator>
  <dc:description/>
  <dc:language>en-US</dc:language>
  <cp:lastModifiedBy>Domenico Rosaci</cp:lastModifiedBy>
  <dcterms:modified xsi:type="dcterms:W3CDTF">2017-09-24T21:03:05Z</dcterms:modified>
  <cp:revision>103</cp:revision>
  <dc:subject/>
  <dc:title>Diapositiva 1</dc:title>
</cp:coreProperties>
</file>